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574-F8F8-4880-A0DE-79702B45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A20-978B-421D-99AC-C11871A4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1C9-B234-4600-A3C9-393ED1B0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D2B-B0CB-45AE-BA35-713A5585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D818D-76CE-4323-B61D-CB319D6B9F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967CF-6407-41D4-9E0C-C69BCF007B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D3B54-1307-4034-A50C-021E48D614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9113E-3E9F-470B-9214-B9EDDD1ACA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59066-C8A3-4748-99DF-CA934CD0FA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3A0B5-2C50-41A8-BCFB-D49C09D081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83466-F3E5-4B4C-A9BE-9A1EB40174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C8B-E342-4984-BE63-55480768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120B1-0183-4745-AA03-7EC3A62B69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41641-8B49-4174-B6A6-C16AF25CC9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A6AAE-BEC7-404F-AEED-CC50AB8106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6792A-E018-45DE-9C13-B0EB80F32C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4DDB3-B1CC-4643-8AE7-72C2FEE32A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D63-6137-401D-A7C2-CC305FE4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9460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51120" y="13712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77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9460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51120" y="407772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5C4-985D-4644-AE25-A729CA0E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801-5125-42FB-AB32-CD97F031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0CD-0CAB-4E40-A4B4-94A4250F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AEB-B186-4FA0-ACD8-6BAB96A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5880" y="407772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7B7-D93A-419E-8787-D709F1C0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5880" y="13712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7772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933-115F-497A-9444-EE644E59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C4CC-7457-4ABC-A724-1602BE5FFA0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1C43-641B-42E9-9B28-AD7C65FB5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8492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4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151920" y="6534000"/>
            <a:ext cx="6858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8C7-F913-4EE5-BA7A-6E5DABE835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-bckgrd-build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2766960" y="2362320"/>
            <a:ext cx="580716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nopolistic Competition and Oligopo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191120" y="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-171360" y="654696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527280" y="6566040"/>
            <a:ext cx="573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 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5120" y="-360"/>
            <a:ext cx="83185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79280" y="1523880"/>
            <a:ext cx="7086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w large produc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ogeneous or differentiate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over pr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tual inter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egic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y barr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79B96DA8-0625-4477-9169-B1EA199AB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2" dur="1" fill="hold"/>
                                  <p:tgtEl>
                                    <p:spTgt spid="2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56800" y="0"/>
            <a:ext cx="828684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77400" y="1280880"/>
            <a:ext cx="7721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-firm concentration r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s to be more than 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lf of U.S. manufact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lized mark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industry compe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ld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ort 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findahl i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0C6BDE31-8B97-4D42-A5C8-37173A99F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0" dur="1" fill="hold"/>
                                  <p:tgtEl>
                                    <p:spTgt spid="2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283720" y="1747800"/>
            <a:ext cx="30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reAir’s Pric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 rot="16200000">
            <a:off x="2652120" y="4034520"/>
            <a:ext cx="31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town’s Pric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9"/>
          <p:cNvGrpSpPr/>
          <p:nvPr/>
        </p:nvGrpSpPr>
        <p:grpSpPr>
          <a:xfrm>
            <a:off x="5140440" y="2525760"/>
            <a:ext cx="3406680" cy="3409920"/>
            <a:chOff x="5140440" y="2525760"/>
            <a:chExt cx="3406680" cy="3409920"/>
          </a:xfrm>
        </p:grpSpPr>
        <p:grpSp>
          <p:nvGrpSpPr>
            <p:cNvPr id="268" name="Group 14"/>
            <p:cNvGrpSpPr/>
            <p:nvPr/>
          </p:nvGrpSpPr>
          <p:grpSpPr>
            <a:xfrm>
              <a:off x="5149800" y="2543040"/>
              <a:ext cx="3389400" cy="3392640"/>
              <a:chOff x="5149800" y="2543040"/>
              <a:chExt cx="3389400" cy="3392640"/>
            </a:xfrm>
          </p:grpSpPr>
          <p:sp>
            <p:nvSpPr>
              <p:cNvPr id="269" name="Rectangle 6"/>
              <p:cNvSpPr/>
              <p:nvPr/>
            </p:nvSpPr>
            <p:spPr>
              <a:xfrm>
                <a:off x="5149800" y="2543040"/>
                <a:ext cx="169560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8"/>
              <p:cNvSpPr/>
              <p:nvPr/>
            </p:nvSpPr>
            <p:spPr>
              <a:xfrm>
                <a:off x="6843960" y="2543040"/>
                <a:ext cx="169524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7"/>
              <p:cNvSpPr/>
              <p:nvPr/>
            </p:nvSpPr>
            <p:spPr>
              <a:xfrm>
                <a:off x="5149800" y="4240080"/>
                <a:ext cx="169560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9"/>
              <p:cNvSpPr/>
              <p:nvPr/>
            </p:nvSpPr>
            <p:spPr>
              <a:xfrm>
                <a:off x="6843960" y="4240080"/>
                <a:ext cx="169524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10"/>
              <p:cNvSpPr/>
              <p:nvPr/>
            </p:nvSpPr>
            <p:spPr>
              <a:xfrm>
                <a:off x="5154840" y="254808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1"/>
              <p:cNvSpPr/>
              <p:nvPr/>
            </p:nvSpPr>
            <p:spPr>
              <a:xfrm>
                <a:off x="5151600" y="42451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12"/>
              <p:cNvSpPr/>
              <p:nvPr/>
            </p:nvSpPr>
            <p:spPr>
              <a:xfrm>
                <a:off x="6848640" y="42451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13"/>
              <p:cNvSpPr/>
              <p:nvPr/>
            </p:nvSpPr>
            <p:spPr>
              <a:xfrm>
                <a:off x="6845400" y="25495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15"/>
            <p:cNvSpPr/>
            <p:nvPr/>
          </p:nvSpPr>
          <p:spPr>
            <a:xfrm>
              <a:off x="5140440" y="2525760"/>
              <a:ext cx="3395520" cy="339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>
              <a:off x="5149800" y="4233960"/>
              <a:ext cx="339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8"/>
            <p:cNvSpPr/>
            <p:nvPr/>
          </p:nvSpPr>
          <p:spPr>
            <a:xfrm>
              <a:off x="6837480" y="2525760"/>
              <a:ext cx="0" cy="340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Oval 20"/>
          <p:cNvSpPr/>
          <p:nvPr/>
        </p:nvSpPr>
        <p:spPr>
          <a:xfrm>
            <a:off x="5261040" y="2643120"/>
            <a:ext cx="49032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6946920" y="2643120"/>
            <a:ext cx="49068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5261040" y="4351320"/>
            <a:ext cx="49032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6946920" y="4351320"/>
            <a:ext cx="49068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5985720" y="2887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5"/>
          <p:cNvSpPr/>
          <p:nvPr/>
        </p:nvSpPr>
        <p:spPr>
          <a:xfrm>
            <a:off x="5382360" y="3540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6"/>
          <p:cNvSpPr/>
          <p:nvPr/>
        </p:nvSpPr>
        <p:spPr>
          <a:xfrm>
            <a:off x="7727400" y="2895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7"/>
          <p:cNvSpPr/>
          <p:nvPr/>
        </p:nvSpPr>
        <p:spPr>
          <a:xfrm>
            <a:off x="7190280" y="354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8"/>
          <p:cNvSpPr/>
          <p:nvPr/>
        </p:nvSpPr>
        <p:spPr>
          <a:xfrm>
            <a:off x="7782480" y="459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9"/>
          <p:cNvSpPr/>
          <p:nvPr/>
        </p:nvSpPr>
        <p:spPr>
          <a:xfrm>
            <a:off x="7190280" y="524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0"/>
          <p:cNvSpPr/>
          <p:nvPr/>
        </p:nvSpPr>
        <p:spPr>
          <a:xfrm>
            <a:off x="6034680" y="454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1"/>
          <p:cNvSpPr/>
          <p:nvPr/>
        </p:nvSpPr>
        <p:spPr>
          <a:xfrm>
            <a:off x="5387400" y="5200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4487400" y="3270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3"/>
          <p:cNvSpPr/>
          <p:nvPr/>
        </p:nvSpPr>
        <p:spPr>
          <a:xfrm>
            <a:off x="5676480" y="21844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4"/>
          <p:cNvSpPr/>
          <p:nvPr/>
        </p:nvSpPr>
        <p:spPr>
          <a:xfrm>
            <a:off x="4514040" y="4803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5"/>
          <p:cNvSpPr/>
          <p:nvPr/>
        </p:nvSpPr>
        <p:spPr>
          <a:xfrm>
            <a:off x="7374960" y="218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6"/>
          <p:cNvSpPr/>
          <p:nvPr/>
        </p:nvSpPr>
        <p:spPr>
          <a:xfrm>
            <a:off x="4362480" y="2536920"/>
            <a:ext cx="315720" cy="3386160"/>
          </a:xfrm>
          <a:custGeom>
            <a:avLst/>
            <a:gdLst>
              <a:gd name="textAreaLeft" fmla="*/ 201600 w 315720"/>
              <a:gd name="textAreaRight" fmla="*/ 316080 w 315720"/>
              <a:gd name="textAreaTop" fmla="*/ 88200 h 3386160"/>
              <a:gd name="textAreaBottom" fmla="*/ 3297960 h 33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7"/>
          <p:cNvSpPr/>
          <p:nvPr/>
        </p:nvSpPr>
        <p:spPr>
          <a:xfrm rot="5400000">
            <a:off x="6670440" y="533160"/>
            <a:ext cx="315720" cy="3386160"/>
          </a:xfrm>
          <a:custGeom>
            <a:avLst/>
            <a:gdLst>
              <a:gd name="textAreaLeft" fmla="*/ 201600 w 315720"/>
              <a:gd name="textAreaRight" fmla="*/ 316080 w 315720"/>
              <a:gd name="textAreaTop" fmla="*/ 88200 h 3386160"/>
              <a:gd name="textAreaBottom" fmla="*/ 3297960 h 33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8"/>
          <p:cNvSpPr/>
          <p:nvPr/>
        </p:nvSpPr>
        <p:spPr>
          <a:xfrm rot="18900000">
            <a:off x="5179680" y="3006360"/>
            <a:ext cx="1665360" cy="77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9"/>
          <p:cNvSpPr/>
          <p:nvPr/>
        </p:nvSpPr>
        <p:spPr>
          <a:xfrm>
            <a:off x="1438200" y="2070000"/>
            <a:ext cx="2243160" cy="405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pric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trategy has a payoff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est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ate a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0"/>
          <p:cNvSpPr/>
          <p:nvPr/>
        </p:nvSpPr>
        <p:spPr>
          <a:xfrm>
            <a:off x="5421240" y="5092560"/>
            <a:ext cx="544680" cy="544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1"/>
          <p:cNvSpPr/>
          <p:nvPr/>
        </p:nvSpPr>
        <p:spPr>
          <a:xfrm>
            <a:off x="7740720" y="2811600"/>
            <a:ext cx="544320" cy="544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2"/>
          <p:cNvSpPr/>
          <p:nvPr/>
        </p:nvSpPr>
        <p:spPr>
          <a:xfrm>
            <a:off x="6608880" y="3179880"/>
            <a:ext cx="1154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3"/>
          <p:cNvSpPr/>
          <p:nvPr/>
        </p:nvSpPr>
        <p:spPr>
          <a:xfrm>
            <a:off x="5791320" y="3995640"/>
            <a:ext cx="0" cy="109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FC042FD-4369-4344-A036-7D973D06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indefinite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indefinite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indefinite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indefinite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indefinite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5283720" y="1747800"/>
            <a:ext cx="30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reAir’s Pric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 rot="16200000">
            <a:off x="2652120" y="4034520"/>
            <a:ext cx="31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town’s Pric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6"/>
          <p:cNvGrpSpPr/>
          <p:nvPr/>
        </p:nvGrpSpPr>
        <p:grpSpPr>
          <a:xfrm>
            <a:off x="5140440" y="2525760"/>
            <a:ext cx="3406680" cy="3409920"/>
            <a:chOff x="5140440" y="2525760"/>
            <a:chExt cx="3406680" cy="3409920"/>
          </a:xfrm>
        </p:grpSpPr>
        <p:grpSp>
          <p:nvGrpSpPr>
            <p:cNvPr id="309" name="Group 7"/>
            <p:cNvGrpSpPr/>
            <p:nvPr/>
          </p:nvGrpSpPr>
          <p:grpSpPr>
            <a:xfrm>
              <a:off x="5149800" y="2543040"/>
              <a:ext cx="3389400" cy="3392640"/>
              <a:chOff x="5149800" y="2543040"/>
              <a:chExt cx="3389400" cy="3392640"/>
            </a:xfrm>
          </p:grpSpPr>
          <p:sp>
            <p:nvSpPr>
              <p:cNvPr id="310" name="Rectangle 8"/>
              <p:cNvSpPr/>
              <p:nvPr/>
            </p:nvSpPr>
            <p:spPr>
              <a:xfrm>
                <a:off x="5149800" y="2543040"/>
                <a:ext cx="169560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9"/>
              <p:cNvSpPr/>
              <p:nvPr/>
            </p:nvSpPr>
            <p:spPr>
              <a:xfrm>
                <a:off x="6843960" y="2543040"/>
                <a:ext cx="169524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0"/>
              <p:cNvSpPr/>
              <p:nvPr/>
            </p:nvSpPr>
            <p:spPr>
              <a:xfrm>
                <a:off x="5149800" y="4240080"/>
                <a:ext cx="169560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1"/>
              <p:cNvSpPr/>
              <p:nvPr/>
            </p:nvSpPr>
            <p:spPr>
              <a:xfrm>
                <a:off x="6843960" y="4240080"/>
                <a:ext cx="1695240" cy="16956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12"/>
              <p:cNvSpPr/>
              <p:nvPr/>
            </p:nvSpPr>
            <p:spPr>
              <a:xfrm>
                <a:off x="5154840" y="254808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13"/>
              <p:cNvSpPr/>
              <p:nvPr/>
            </p:nvSpPr>
            <p:spPr>
              <a:xfrm>
                <a:off x="5151600" y="42451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14"/>
              <p:cNvSpPr/>
              <p:nvPr/>
            </p:nvSpPr>
            <p:spPr>
              <a:xfrm>
                <a:off x="6848640" y="42451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15"/>
              <p:cNvSpPr/>
              <p:nvPr/>
            </p:nvSpPr>
            <p:spPr>
              <a:xfrm>
                <a:off x="6845400" y="2549520"/>
                <a:ext cx="1685880" cy="1685880"/>
              </a:xfrm>
              <a:prstGeom prst="rtTriangl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Rectangle 16"/>
            <p:cNvSpPr/>
            <p:nvPr/>
          </p:nvSpPr>
          <p:spPr>
            <a:xfrm>
              <a:off x="5140440" y="2525760"/>
              <a:ext cx="3395520" cy="339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"/>
            <p:cNvSpPr/>
            <p:nvPr/>
          </p:nvSpPr>
          <p:spPr>
            <a:xfrm>
              <a:off x="5149800" y="4233960"/>
              <a:ext cx="339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8"/>
            <p:cNvSpPr/>
            <p:nvPr/>
          </p:nvSpPr>
          <p:spPr>
            <a:xfrm>
              <a:off x="6837480" y="2525760"/>
              <a:ext cx="0" cy="340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Oval 19"/>
          <p:cNvSpPr/>
          <p:nvPr/>
        </p:nvSpPr>
        <p:spPr>
          <a:xfrm>
            <a:off x="5261040" y="2643120"/>
            <a:ext cx="49032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0"/>
          <p:cNvSpPr/>
          <p:nvPr/>
        </p:nvSpPr>
        <p:spPr>
          <a:xfrm>
            <a:off x="6946920" y="2643120"/>
            <a:ext cx="49068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1"/>
          <p:cNvSpPr/>
          <p:nvPr/>
        </p:nvSpPr>
        <p:spPr>
          <a:xfrm>
            <a:off x="5261040" y="4351320"/>
            <a:ext cx="49032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2"/>
          <p:cNvSpPr/>
          <p:nvPr/>
        </p:nvSpPr>
        <p:spPr>
          <a:xfrm>
            <a:off x="6946920" y="4351320"/>
            <a:ext cx="490680" cy="490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>
            <a:off x="5985720" y="2887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4"/>
          <p:cNvSpPr/>
          <p:nvPr/>
        </p:nvSpPr>
        <p:spPr>
          <a:xfrm>
            <a:off x="5382360" y="3540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5"/>
          <p:cNvSpPr/>
          <p:nvPr/>
        </p:nvSpPr>
        <p:spPr>
          <a:xfrm>
            <a:off x="7727400" y="2895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6"/>
          <p:cNvSpPr/>
          <p:nvPr/>
        </p:nvSpPr>
        <p:spPr>
          <a:xfrm>
            <a:off x="7190280" y="354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7"/>
          <p:cNvSpPr/>
          <p:nvPr/>
        </p:nvSpPr>
        <p:spPr>
          <a:xfrm>
            <a:off x="7782480" y="459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7190280" y="524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9"/>
          <p:cNvSpPr/>
          <p:nvPr/>
        </p:nvSpPr>
        <p:spPr>
          <a:xfrm>
            <a:off x="6034680" y="454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0"/>
          <p:cNvSpPr/>
          <p:nvPr/>
        </p:nvSpPr>
        <p:spPr>
          <a:xfrm>
            <a:off x="5387400" y="52005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1"/>
          <p:cNvSpPr/>
          <p:nvPr/>
        </p:nvSpPr>
        <p:spPr>
          <a:xfrm>
            <a:off x="4487400" y="3270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2"/>
          <p:cNvSpPr/>
          <p:nvPr/>
        </p:nvSpPr>
        <p:spPr>
          <a:xfrm>
            <a:off x="5676480" y="21844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4514040" y="4803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7374960" y="218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5"/>
          <p:cNvSpPr/>
          <p:nvPr/>
        </p:nvSpPr>
        <p:spPr>
          <a:xfrm>
            <a:off x="4362480" y="2536920"/>
            <a:ext cx="315720" cy="3386160"/>
          </a:xfrm>
          <a:custGeom>
            <a:avLst/>
            <a:gdLst>
              <a:gd name="textAreaLeft" fmla="*/ 201600 w 315720"/>
              <a:gd name="textAreaRight" fmla="*/ 316080 w 315720"/>
              <a:gd name="textAreaTop" fmla="*/ 88200 h 3386160"/>
              <a:gd name="textAreaBottom" fmla="*/ 3297960 h 33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6"/>
          <p:cNvSpPr/>
          <p:nvPr/>
        </p:nvSpPr>
        <p:spPr>
          <a:xfrm rot="5400000">
            <a:off x="6670440" y="533160"/>
            <a:ext cx="315720" cy="3386160"/>
          </a:xfrm>
          <a:custGeom>
            <a:avLst/>
            <a:gdLst>
              <a:gd name="textAreaLeft" fmla="*/ 201600 w 315720"/>
              <a:gd name="textAreaRight" fmla="*/ 316080 w 315720"/>
              <a:gd name="textAreaTop" fmla="*/ 88200 h 3386160"/>
              <a:gd name="textAreaBottom" fmla="*/ 3297960 h 33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37"/>
          <p:cNvSpPr/>
          <p:nvPr/>
        </p:nvSpPr>
        <p:spPr>
          <a:xfrm rot="18900000">
            <a:off x="6857640" y="4739760"/>
            <a:ext cx="1665360" cy="77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8"/>
          <p:cNvSpPr/>
          <p:nvPr/>
        </p:nvSpPr>
        <p:spPr>
          <a:xfrm>
            <a:off x="1438200" y="2070000"/>
            <a:ext cx="2243160" cy="3753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ly lowered prices in expectation of greater profit leads to the worst combined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tually low outcomes make firms return to higher pr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5421240" y="3470400"/>
            <a:ext cx="544680" cy="544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0"/>
          <p:cNvSpPr/>
          <p:nvPr/>
        </p:nvSpPr>
        <p:spPr>
          <a:xfrm>
            <a:off x="6018120" y="2811600"/>
            <a:ext cx="544680" cy="544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1"/>
          <p:cNvSpPr/>
          <p:nvPr/>
        </p:nvSpPr>
        <p:spPr>
          <a:xfrm flipH="1" flipV="1">
            <a:off x="6338520" y="3355920"/>
            <a:ext cx="1305000" cy="12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2"/>
          <p:cNvSpPr/>
          <p:nvPr/>
        </p:nvSpPr>
        <p:spPr>
          <a:xfrm flipH="1" flipV="1">
            <a:off x="5965560" y="3825360"/>
            <a:ext cx="1284120" cy="122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2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D379A194-AAA5-4A65-948D-73F3EAAC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indefinite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17720" y="1655280"/>
            <a:ext cx="7821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 inter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ing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hances pro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entive to c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soner’s dile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1E92CAD2-6171-470B-883D-E36327B9C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6" dur="1" fill="hold"/>
                                  <p:tgtEl>
                                    <p:spTgt spid="3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31708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Oligopoly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377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ked-demand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usive pr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three mod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ersity of oligopo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ications of inter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519BC55B-C009-495F-9581-192E9A70B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0" dur="1" fill="hold"/>
                                  <p:tgtEl>
                                    <p:spTgt spid="3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ked-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53720" y="123516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collusive olig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ch price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gnore price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d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inflex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kinked-demand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74C17FC1-F0A0-4F25-8A68-53E2706C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0" dur="1" fill="hold"/>
                                  <p:tgtEl>
                                    <p:spTgt spid="3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9"/>
          <p:cNvGrpSpPr/>
          <p:nvPr/>
        </p:nvGrpSpPr>
        <p:grpSpPr>
          <a:xfrm>
            <a:off x="1676520" y="2365200"/>
            <a:ext cx="7065360" cy="3193200"/>
            <a:chOff x="1676520" y="2365200"/>
            <a:chExt cx="7065360" cy="3193200"/>
          </a:xfrm>
        </p:grpSpPr>
        <p:sp>
          <p:nvSpPr>
            <p:cNvPr id="356" name="Rectangle 6"/>
            <p:cNvSpPr/>
            <p:nvPr/>
          </p:nvSpPr>
          <p:spPr>
            <a:xfrm>
              <a:off x="2315880" y="2365200"/>
              <a:ext cx="2917440" cy="263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7"/>
            <p:cNvSpPr/>
            <p:nvPr/>
          </p:nvSpPr>
          <p:spPr>
            <a:xfrm>
              <a:off x="5824440" y="2367000"/>
              <a:ext cx="2917440" cy="26334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8"/>
            <p:cNvSpPr/>
            <p:nvPr/>
          </p:nvSpPr>
          <p:spPr>
            <a:xfrm rot="16200000">
              <a:off x="1521000" y="352944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"/>
            <p:cNvSpPr/>
            <p:nvPr/>
          </p:nvSpPr>
          <p:spPr>
            <a:xfrm rot="16200000">
              <a:off x="4691520" y="3528720"/>
              <a:ext cx="152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 and Co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3354840" y="52434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26"/>
            <p:cNvSpPr/>
            <p:nvPr/>
          </p:nvSpPr>
          <p:spPr>
            <a:xfrm>
              <a:off x="6818760" y="525132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7"/>
            <p:cNvSpPr/>
            <p:nvPr/>
          </p:nvSpPr>
          <p:spPr>
            <a:xfrm>
              <a:off x="2121840" y="4929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641200" y="4937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11"/>
          <p:cNvSpPr/>
          <p:nvPr/>
        </p:nvSpPr>
        <p:spPr>
          <a:xfrm>
            <a:off x="2557440" y="3220920"/>
            <a:ext cx="2416320" cy="5241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2"/>
          <p:cNvSpPr/>
          <p:nvPr/>
        </p:nvSpPr>
        <p:spPr>
          <a:xfrm>
            <a:off x="2600280" y="2743200"/>
            <a:ext cx="1459080" cy="249228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3"/>
          <p:cNvSpPr/>
          <p:nvPr/>
        </p:nvSpPr>
        <p:spPr>
          <a:xfrm>
            <a:off x="2546280" y="3417840"/>
            <a:ext cx="2373480" cy="9795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2006280" y="330660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4781520" y="411480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4919760" y="3625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4767120" y="45403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>
            <a:off x="4000320" y="500076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9"/>
          <p:cNvSpPr/>
          <p:nvPr/>
        </p:nvSpPr>
        <p:spPr>
          <a:xfrm>
            <a:off x="3613320" y="3438360"/>
            <a:ext cx="0" cy="1557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0"/>
          <p:cNvSpPr/>
          <p:nvPr/>
        </p:nvSpPr>
        <p:spPr>
          <a:xfrm flipH="1">
            <a:off x="2317320" y="3462480"/>
            <a:ext cx="129564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0"/>
          <p:cNvSpPr/>
          <p:nvPr/>
        </p:nvSpPr>
        <p:spPr>
          <a:xfrm>
            <a:off x="2776680" y="2612880"/>
            <a:ext cx="2044440" cy="20466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1"/>
          <p:cNvSpPr/>
          <p:nvPr/>
        </p:nvSpPr>
        <p:spPr>
          <a:xfrm>
            <a:off x="3602160" y="3440160"/>
            <a:ext cx="1230120" cy="121932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2"/>
          <p:cNvSpPr/>
          <p:nvPr/>
        </p:nvSpPr>
        <p:spPr>
          <a:xfrm>
            <a:off x="2557440" y="3220920"/>
            <a:ext cx="1069920" cy="23508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0"/>
          <p:cNvSpPr/>
          <p:nvPr/>
        </p:nvSpPr>
        <p:spPr>
          <a:xfrm>
            <a:off x="2543040" y="3414600"/>
            <a:ext cx="1086120" cy="44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2"/>
          <p:cNvSpPr/>
          <p:nvPr/>
        </p:nvSpPr>
        <p:spPr>
          <a:xfrm>
            <a:off x="3611520" y="3859200"/>
            <a:ext cx="0" cy="600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3"/>
          <p:cNvSpPr/>
          <p:nvPr/>
        </p:nvSpPr>
        <p:spPr>
          <a:xfrm>
            <a:off x="3616200" y="4487760"/>
            <a:ext cx="443160" cy="74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3547800" y="3201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3333600" y="35211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3574800" y="42512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7"/>
          <p:cNvSpPr/>
          <p:nvPr/>
        </p:nvSpPr>
        <p:spPr>
          <a:xfrm>
            <a:off x="3561480" y="2604960"/>
            <a:ext cx="13924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als Ign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ce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2232000" y="4259160"/>
            <a:ext cx="14608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als M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ce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9"/>
          <p:cNvSpPr/>
          <p:nvPr/>
        </p:nvSpPr>
        <p:spPr>
          <a:xfrm flipH="1">
            <a:off x="3166920" y="2862360"/>
            <a:ext cx="424080" cy="43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0"/>
          <p:cNvSpPr/>
          <p:nvPr/>
        </p:nvSpPr>
        <p:spPr>
          <a:xfrm flipV="1">
            <a:off x="3070080" y="3897360"/>
            <a:ext cx="95724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412440" y="4956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3"/>
          <p:cNvSpPr/>
          <p:nvPr/>
        </p:nvSpPr>
        <p:spPr>
          <a:xfrm>
            <a:off x="6173640" y="3411360"/>
            <a:ext cx="1086120" cy="44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44"/>
          <p:cNvSpPr/>
          <p:nvPr/>
        </p:nvSpPr>
        <p:spPr>
          <a:xfrm>
            <a:off x="7242120" y="3855960"/>
            <a:ext cx="0" cy="600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5"/>
          <p:cNvSpPr/>
          <p:nvPr/>
        </p:nvSpPr>
        <p:spPr>
          <a:xfrm>
            <a:off x="7246800" y="4484520"/>
            <a:ext cx="443160" cy="74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6"/>
          <p:cNvSpPr/>
          <p:nvPr/>
        </p:nvSpPr>
        <p:spPr>
          <a:xfrm>
            <a:off x="1546200" y="1193760"/>
            <a:ext cx="72025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etitor and rivals strategize versus each o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umers effectively have 2 partial demand curves and each part has its own marginal revenue pa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5778360" y="342252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8"/>
          <p:cNvSpPr/>
          <p:nvPr/>
        </p:nvSpPr>
        <p:spPr>
          <a:xfrm>
            <a:off x="5805360" y="29894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9"/>
          <p:cNvSpPr/>
          <p:nvPr/>
        </p:nvSpPr>
        <p:spPr>
          <a:xfrm>
            <a:off x="8342280" y="4614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7664400" y="501984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1"/>
          <p:cNvSpPr/>
          <p:nvPr/>
        </p:nvSpPr>
        <p:spPr>
          <a:xfrm>
            <a:off x="7243920" y="3446640"/>
            <a:ext cx="0" cy="15570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7043040" y="49863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5"/>
          <p:cNvSpPr/>
          <p:nvPr/>
        </p:nvSpPr>
        <p:spPr>
          <a:xfrm>
            <a:off x="7851600" y="295740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6"/>
          <p:cNvSpPr/>
          <p:nvPr/>
        </p:nvSpPr>
        <p:spPr>
          <a:xfrm>
            <a:off x="7904160" y="3654360"/>
            <a:ext cx="514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57"/>
          <p:cNvSpPr/>
          <p:nvPr/>
        </p:nvSpPr>
        <p:spPr>
          <a:xfrm flipH="1">
            <a:off x="5827320" y="3459240"/>
            <a:ext cx="1405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5514840" y="330372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4"/>
          <p:cNvSpPr/>
          <p:nvPr/>
        </p:nvSpPr>
        <p:spPr>
          <a:xfrm>
            <a:off x="6176880" y="3218040"/>
            <a:ext cx="1069920" cy="23472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3"/>
          <p:cNvSpPr/>
          <p:nvPr/>
        </p:nvSpPr>
        <p:spPr>
          <a:xfrm>
            <a:off x="7221600" y="3436920"/>
            <a:ext cx="1230120" cy="121932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53"/>
          <p:cNvSpPr/>
          <p:nvPr/>
        </p:nvSpPr>
        <p:spPr>
          <a:xfrm>
            <a:off x="6431040" y="3149640"/>
            <a:ext cx="1415880" cy="803160"/>
          </a:xfrm>
          <a:custGeom>
            <a:avLst/>
            <a:gdLst>
              <a:gd name="textAreaLeft" fmla="*/ 0 w 1415880"/>
              <a:gd name="textAreaRight" fmla="*/ 1415880 w 141588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892" h="506">
                <a:moveTo>
                  <a:pt x="0" y="411"/>
                </a:moveTo>
                <a:cubicBezTo>
                  <a:pt x="84" y="415"/>
                  <a:pt x="372" y="506"/>
                  <a:pt x="521" y="438"/>
                </a:cubicBezTo>
                <a:cubicBezTo>
                  <a:pt x="670" y="370"/>
                  <a:pt x="815" y="91"/>
                  <a:pt x="892" y="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54"/>
          <p:cNvSpPr/>
          <p:nvPr/>
        </p:nvSpPr>
        <p:spPr>
          <a:xfrm>
            <a:off x="6443640" y="3835440"/>
            <a:ext cx="1490760" cy="73008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730080"/>
              <a:gd name="textAreaBottom" fmla="*/ 730080 h 730080"/>
            </a:gdLst>
            <a:ahLst/>
            <a:rect l="textAreaLeft" t="textAreaTop" r="textAreaRight" b="textAreaBottom"/>
            <a:pathLst>
              <a:path w="939" h="460">
                <a:moveTo>
                  <a:pt x="0" y="342"/>
                </a:moveTo>
                <a:cubicBezTo>
                  <a:pt x="85" y="351"/>
                  <a:pt x="355" y="460"/>
                  <a:pt x="511" y="403"/>
                </a:cubicBezTo>
                <a:cubicBezTo>
                  <a:pt x="667" y="346"/>
                  <a:pt x="850" y="84"/>
                  <a:pt x="939" y="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9"/>
          <p:cNvSpPr/>
          <p:nvPr/>
        </p:nvSpPr>
        <p:spPr>
          <a:xfrm>
            <a:off x="2043000" y="5484960"/>
            <a:ext cx="6532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ulting in a kinked-demand curve to the consumer – price and output are optimized at the k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0"/>
          <p:cNvSpPr/>
          <p:nvPr/>
        </p:nvSpPr>
        <p:spPr>
          <a:xfrm>
            <a:off x="7178400" y="318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1"/>
          <p:cNvSpPr/>
          <p:nvPr/>
        </p:nvSpPr>
        <p:spPr>
          <a:xfrm>
            <a:off x="6964200" y="35067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2"/>
          <p:cNvSpPr/>
          <p:nvPr/>
        </p:nvSpPr>
        <p:spPr>
          <a:xfrm>
            <a:off x="7250040" y="4336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838080" y="0"/>
            <a:ext cx="830592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ked-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9470FD28-315D-4CE6-B337-5274B0145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indefinite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indefinite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977400" y="1481040"/>
            <a:ext cx="708660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isms of th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price get to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s inflexibility, not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s are not that rig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wa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838080" y="0"/>
            <a:ext cx="830592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ked-Deman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B3B72760-C575-4F47-B286-C50BC854E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1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1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6" dur="1" fill="hold"/>
                                  <p:tgtEl>
                                    <p:spTgt spid="4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3"/>
          <p:cNvGrpSpPr/>
          <p:nvPr/>
        </p:nvGrpSpPr>
        <p:grpSpPr>
          <a:xfrm>
            <a:off x="1957320" y="3036960"/>
            <a:ext cx="5904000" cy="3574080"/>
            <a:chOff x="1957320" y="3036960"/>
            <a:chExt cx="5904000" cy="3574080"/>
          </a:xfrm>
        </p:grpSpPr>
        <p:sp>
          <p:nvSpPr>
            <p:cNvPr id="416" name="Rectangle 4"/>
            <p:cNvSpPr/>
            <p:nvPr/>
          </p:nvSpPr>
          <p:spPr>
            <a:xfrm>
              <a:off x="2852640" y="3036960"/>
              <a:ext cx="5008680" cy="3047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5"/>
            <p:cNvSpPr/>
            <p:nvPr/>
          </p:nvSpPr>
          <p:spPr>
            <a:xfrm rot="16200000">
              <a:off x="1269720" y="4331160"/>
              <a:ext cx="171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ce and Co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6"/>
            <p:cNvSpPr/>
            <p:nvPr/>
          </p:nvSpPr>
          <p:spPr>
            <a:xfrm>
              <a:off x="4777920" y="6273720"/>
              <a:ext cx="100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17"/>
          <p:cNvSpPr/>
          <p:nvPr/>
        </p:nvSpPr>
        <p:spPr>
          <a:xfrm>
            <a:off x="2862360" y="4160880"/>
            <a:ext cx="1164960" cy="706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8"/>
          <p:cNvSpPr/>
          <p:nvPr/>
        </p:nvSpPr>
        <p:spPr>
          <a:xfrm flipV="1">
            <a:off x="4027320" y="4147920"/>
            <a:ext cx="0" cy="19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3040" y="-360"/>
            <a:ext cx="8310600" cy="11811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els and Other Co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66320" y="1267920"/>
            <a:ext cx="607068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ce and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int profit max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2873520" y="3330720"/>
            <a:ext cx="1523880" cy="2547720"/>
          </a:xfrm>
          <a:prstGeom prst="line">
            <a:avLst/>
          </a:prstGeom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7"/>
          <p:cNvSpPr/>
          <p:nvPr/>
        </p:nvSpPr>
        <p:spPr>
          <a:xfrm>
            <a:off x="2863800" y="3309840"/>
            <a:ext cx="3525840" cy="2524320"/>
          </a:xfrm>
          <a:prstGeom prst="line">
            <a:avLst/>
          </a:prstGeom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9"/>
          <p:cNvSpPr/>
          <p:nvPr/>
        </p:nvSpPr>
        <p:spPr>
          <a:xfrm>
            <a:off x="3121200" y="3409920"/>
            <a:ext cx="1774800" cy="201600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016000"/>
              <a:gd name="textAreaBottom" fmla="*/ 2016000 h 2016000"/>
            </a:gdLst>
            <a:ahLst/>
            <a:rect l="textAreaLeft" t="textAreaTop" r="textAreaRight" b="textAreaBottom"/>
            <a:pathLst>
              <a:path w="1118" h="1270">
                <a:moveTo>
                  <a:pt x="0" y="1124"/>
                </a:moveTo>
                <a:cubicBezTo>
                  <a:pt x="178" y="1197"/>
                  <a:pt x="356" y="1270"/>
                  <a:pt x="494" y="1207"/>
                </a:cubicBezTo>
                <a:cubicBezTo>
                  <a:pt x="632" y="1144"/>
                  <a:pt x="726" y="948"/>
                  <a:pt x="830" y="747"/>
                </a:cubicBezTo>
                <a:cubicBezTo>
                  <a:pt x="934" y="546"/>
                  <a:pt x="1026" y="273"/>
                  <a:pt x="1118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0"/>
          <p:cNvSpPr/>
          <p:nvPr/>
        </p:nvSpPr>
        <p:spPr>
          <a:xfrm>
            <a:off x="3166920" y="4213080"/>
            <a:ext cx="2874960" cy="702000"/>
          </a:xfrm>
          <a:custGeom>
            <a:avLst/>
            <a:gdLst>
              <a:gd name="textAreaLeft" fmla="*/ 0 w 2874960"/>
              <a:gd name="textAreaRight" fmla="*/ 2875320 w 287496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811" h="442">
                <a:moveTo>
                  <a:pt x="0" y="226"/>
                </a:moveTo>
                <a:cubicBezTo>
                  <a:pt x="212" y="334"/>
                  <a:pt x="425" y="442"/>
                  <a:pt x="727" y="404"/>
                </a:cubicBezTo>
                <a:cubicBezTo>
                  <a:pt x="1029" y="366"/>
                  <a:pt x="1420" y="183"/>
                  <a:pt x="1811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1"/>
          <p:cNvSpPr/>
          <p:nvPr/>
        </p:nvSpPr>
        <p:spPr>
          <a:xfrm>
            <a:off x="3963960" y="5181480"/>
            <a:ext cx="131760" cy="13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6377040" y="564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4084920" y="51069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=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6015600" y="40147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4705560" y="315108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4381560" y="571500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2517480" y="400680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2525760" y="471492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1"/>
          <p:cNvSpPr/>
          <p:nvPr/>
        </p:nvSpPr>
        <p:spPr>
          <a:xfrm>
            <a:off x="3833280" y="60451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2817360" y="535932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5"/>
          <p:cNvSpPr/>
          <p:nvPr/>
        </p:nvSpPr>
        <p:spPr>
          <a:xfrm flipV="1">
            <a:off x="3022560" y="4712760"/>
            <a:ext cx="0" cy="6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5202720" y="3059280"/>
            <a:ext cx="263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ffectively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onopoly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3719BAD2-EB8E-45FA-96D2-26283171E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28880" y="1267920"/>
            <a:ext cx="78739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monopolistic 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mal profit in the long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oligo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e the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ligopolist’s kinked demand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usion among oligopo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ffects of 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4E4DB539-4CB3-41CA-8211-AAC03A6AC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EC Ca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9"/>
          <p:cNvSpPr/>
          <p:nvPr/>
        </p:nvSpPr>
        <p:spPr>
          <a:xfrm>
            <a:off x="6427440" y="6377040"/>
            <a:ext cx="25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A. T. Kearney, Foreign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7"/>
          <p:cNvSpPr/>
          <p:nvPr/>
        </p:nvSpPr>
        <p:spPr>
          <a:xfrm>
            <a:off x="2394000" y="2478240"/>
            <a:ext cx="5762520" cy="2905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,843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0"/>
          <p:cNvSpPr/>
          <p:nvPr/>
        </p:nvSpPr>
        <p:spPr>
          <a:xfrm>
            <a:off x="2394000" y="2797200"/>
            <a:ext cx="5762520" cy="2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wai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538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1"/>
          <p:cNvSpPr/>
          <p:nvPr/>
        </p:nvSpPr>
        <p:spPr>
          <a:xfrm>
            <a:off x="2394000" y="3116160"/>
            <a:ext cx="5762520" cy="2905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nezuel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368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2"/>
          <p:cNvSpPr/>
          <p:nvPr/>
        </p:nvSpPr>
        <p:spPr>
          <a:xfrm>
            <a:off x="2394000" y="3435480"/>
            <a:ext cx="5762520" cy="290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aq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297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3"/>
          <p:cNvSpPr/>
          <p:nvPr/>
        </p:nvSpPr>
        <p:spPr>
          <a:xfrm>
            <a:off x="2381400" y="3767040"/>
            <a:ext cx="5762520" cy="2905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183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4"/>
          <p:cNvSpPr/>
          <p:nvPr/>
        </p:nvSpPr>
        <p:spPr>
          <a:xfrm>
            <a:off x="2394000" y="4073400"/>
            <a:ext cx="5762520" cy="29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A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117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5"/>
          <p:cNvSpPr/>
          <p:nvPr/>
        </p:nvSpPr>
        <p:spPr>
          <a:xfrm>
            <a:off x="2394000" y="4392720"/>
            <a:ext cx="5762520" cy="290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gol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804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6"/>
          <p:cNvSpPr/>
          <p:nvPr/>
        </p:nvSpPr>
        <p:spPr>
          <a:xfrm>
            <a:off x="2394000" y="4711680"/>
            <a:ext cx="5762520" cy="290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y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737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7"/>
          <p:cNvSpPr/>
          <p:nvPr/>
        </p:nvSpPr>
        <p:spPr>
          <a:xfrm>
            <a:off x="2394000" y="5030640"/>
            <a:ext cx="5762520" cy="290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ger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417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8"/>
          <p:cNvSpPr/>
          <p:nvPr/>
        </p:nvSpPr>
        <p:spPr>
          <a:xfrm>
            <a:off x="2394000" y="5349960"/>
            <a:ext cx="5762520" cy="29052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ata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848,000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9"/>
          <p:cNvSpPr/>
          <p:nvPr/>
        </p:nvSpPr>
        <p:spPr>
          <a:xfrm>
            <a:off x="2394000" y="5668920"/>
            <a:ext cx="5762520" cy="290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ones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843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0"/>
          <p:cNvSpPr/>
          <p:nvPr/>
        </p:nvSpPr>
        <p:spPr>
          <a:xfrm>
            <a:off x="2394000" y="5987880"/>
            <a:ext cx="5762520" cy="290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uado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53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8"/>
          <p:cNvSpPr/>
          <p:nvPr/>
        </p:nvSpPr>
        <p:spPr>
          <a:xfrm>
            <a:off x="1092240" y="1282680"/>
            <a:ext cx="80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ily oil production (barrels) , November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6"/>
          <p:cNvSpPr/>
          <p:nvPr/>
        </p:nvSpPr>
        <p:spPr>
          <a:xfrm>
            <a:off x="2387520" y="2019240"/>
            <a:ext cx="5765760" cy="429120"/>
          </a:xfrm>
          <a:prstGeom prst="rect">
            <a:avLst/>
          </a:prstGeom>
          <a:solidFill>
            <a:srgbClr val="cc6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,904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10280" y="65912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E7B44C1C-982E-44E9-8CE7-602ED89CD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20800" y="0"/>
            <a:ext cx="8323200" cy="12319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els and Other Co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90360" y="1356840"/>
            <a:ext cx="7086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vert col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it 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tacles to col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and and cost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of fi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l obstacles: antitrust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CE4DD3DA-CF7B-43FA-A65C-E4F2C9DE1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nodeType="clickEffect" fill="hold">
                      <p:stCondLst>
                        <p:cond delay="0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1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10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10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10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10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1000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2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18640" y="-360"/>
            <a:ext cx="832500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Leadership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02960" y="1476000"/>
            <a:ext cx="81406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ership tac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equent price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 pr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downs in price leadership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4F63F8C7-BA1A-42A6-82DC-C0D027E85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0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1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1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10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10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5" dur="1" fill="hold"/>
                                  <p:tgtEl>
                                    <p:spTgt spid="4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3041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66320" y="1509480"/>
            <a:ext cx="769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alent in monopolistic competition and olig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ture market sh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ter than a price c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for consu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ipul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E045728-B74C-4486-9068-FDA58F3D0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0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9" dur="1" fill="hold"/>
                                  <p:tgtEl>
                                    <p:spTgt spid="4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317080" cy="9907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y and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853640" y="907920"/>
            <a:ext cx="68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argest U.S. Advertisers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14"/>
          <p:cNvGrpSpPr/>
          <p:nvPr/>
        </p:nvGrpSpPr>
        <p:grpSpPr>
          <a:xfrm>
            <a:off x="2297160" y="1509840"/>
            <a:ext cx="6152040" cy="1033200"/>
            <a:chOff x="2297160" y="1509840"/>
            <a:chExt cx="6152040" cy="1033200"/>
          </a:xfrm>
        </p:grpSpPr>
        <p:sp>
          <p:nvSpPr>
            <p:cNvPr id="469" name="Rectangle 6"/>
            <p:cNvSpPr/>
            <p:nvPr/>
          </p:nvSpPr>
          <p:spPr>
            <a:xfrm>
              <a:off x="2297160" y="1509840"/>
              <a:ext cx="6149880" cy="1033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7"/>
            <p:cNvSpPr/>
            <p:nvPr/>
          </p:nvSpPr>
          <p:spPr>
            <a:xfrm>
              <a:off x="2590200" y="197640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"/>
            <p:cNvSpPr/>
            <p:nvPr/>
          </p:nvSpPr>
          <p:spPr>
            <a:xfrm>
              <a:off x="5119920" y="1611000"/>
              <a:ext cx="332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vertising S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lions of $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Text Box 9"/>
          <p:cNvSpPr/>
          <p:nvPr/>
        </p:nvSpPr>
        <p:spPr>
          <a:xfrm>
            <a:off x="2477160" y="2494080"/>
            <a:ext cx="310680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tor and G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W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d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xoSmithK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t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son &amp; Joh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l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6261120" y="2498760"/>
            <a:ext cx="1468440" cy="39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8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6896160" y="629604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: Advertising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0EB1E899-C9A2-4EB4-B79A-89496395C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0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3"/>
          <p:cNvSpPr/>
          <p:nvPr/>
        </p:nvSpPr>
        <p:spPr>
          <a:xfrm>
            <a:off x="1002600" y="1328760"/>
            <a:ext cx="78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ld’s Top 10 Brand Names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7"/>
          <p:cNvGrpSpPr/>
          <p:nvPr/>
        </p:nvGrpSpPr>
        <p:grpSpPr>
          <a:xfrm>
            <a:off x="2503440" y="2035080"/>
            <a:ext cx="5672160" cy="4559760"/>
            <a:chOff x="2503440" y="2035080"/>
            <a:chExt cx="5672160" cy="4559760"/>
          </a:xfrm>
        </p:grpSpPr>
        <p:sp>
          <p:nvSpPr>
            <p:cNvPr id="478" name="Rectangle 14"/>
            <p:cNvSpPr/>
            <p:nvPr/>
          </p:nvSpPr>
          <p:spPr>
            <a:xfrm>
              <a:off x="2503440" y="2111400"/>
              <a:ext cx="5672160" cy="4245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"/>
            <p:cNvSpPr/>
            <p:nvPr/>
          </p:nvSpPr>
          <p:spPr>
            <a:xfrm>
              <a:off x="6805440" y="63183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ource: Interb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5"/>
            <p:cNvSpPr/>
            <p:nvPr/>
          </p:nvSpPr>
          <p:spPr>
            <a:xfrm>
              <a:off x="4203720" y="2035080"/>
              <a:ext cx="289044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ca-Co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icroso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B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eneral Electr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k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oyo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cDonald’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isne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ercedes-Ben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2"/>
          <p:cNvSpPr/>
          <p:nvPr/>
        </p:nvSpPr>
        <p:spPr>
          <a:xfrm>
            <a:off x="826920" y="0"/>
            <a:ext cx="8317080" cy="99072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y and Advert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F2FB7EDB-3368-4583-A029-5D2DC2325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nodeType="clickEffect" fill="hold">
                      <p:stCondLst>
                        <p:cond delay="0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9520" y="0"/>
            <a:ext cx="8304120" cy="11685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y and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990720" y="1252440"/>
            <a:ext cx="8153280" cy="58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productively 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llocatively 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dency to share the monopoly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ed foreign 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 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ical ad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DF3ED338-015F-46E1-9DDD-E9E33B4DF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10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10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10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10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10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10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7" dur="1" fill="hold"/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06400" y="0"/>
            <a:ext cx="8337600" cy="11556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opoly in the Beer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56800" y="1228320"/>
            <a:ext cx="8286840" cy="56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hundreds to a few fir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and side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te shifts to lighter be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from tap to cans or bot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ly side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cal change increased minimum efficien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brands enjoy cost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idation into oligo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1192FE7D-B07E-4417-AE81-B78F075DD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1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1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10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indefinite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10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1000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indefinite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95,95,95)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5" dur="1" fill="hold"/>
                                  <p:tgtEl>
                                    <p:spTgt spid="48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901440" y="1528560"/>
            <a:ext cx="39495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price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-firm concentration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findahl ind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ss capa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igo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geneous oligo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iated oligo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5054400" y="1528560"/>
            <a:ext cx="40892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ic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tual interdepen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industry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 com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ked-demand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t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leader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883DDBA5-5D52-45DB-BED2-D9F3B8D3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nodeType="clickEffect" fill="hold">
                      <p:stCondLst>
                        <p:cond delay="0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4300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Chapter P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2095200" y="2908440"/>
            <a:ext cx="54248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chnology, R&amp;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d Efficie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E9272771-D2E1-41C5-9956-20369BCA4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0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8960" y="0"/>
            <a:ext cx="828504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8560" y="1091880"/>
            <a:ext cx="713232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number of sel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market sh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col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ependent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iate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and names and pack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control over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6DB77029-2700-445E-9371-27B02ED4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12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9640" y="1333080"/>
            <a:ext cx="713232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y entry and ex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ed for 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price Com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ndus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gree of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-firm concentration 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findahl 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858960" y="0"/>
            <a:ext cx="8285040" cy="111744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50F352B7-0E3A-4B3D-A29F-8A52D944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30040" y="1404720"/>
            <a:ext cx="70866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m’s demand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ly ela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run profit or lo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 where MR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run normal pro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y and ex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 var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C7F6110A-5AD4-4DDC-8A1A-333FBB9C9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3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2598840" y="2063880"/>
            <a:ext cx="5810040" cy="38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610000" y="3322800"/>
            <a:ext cx="2720880" cy="312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735360" y="1398600"/>
            <a:ext cx="3570120" cy="581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ort-Run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892400" y="60944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 rot="16200000">
            <a:off x="879480" y="37663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4"/>
          <p:cNvGrpSpPr/>
          <p:nvPr/>
        </p:nvGrpSpPr>
        <p:grpSpPr>
          <a:xfrm>
            <a:off x="2978280" y="2676600"/>
            <a:ext cx="4838400" cy="2720880"/>
            <a:chOff x="2978280" y="2676600"/>
            <a:chExt cx="4838400" cy="2720880"/>
          </a:xfrm>
        </p:grpSpPr>
        <p:sp>
          <p:nvSpPr>
            <p:cNvPr id="144" name="Line 10"/>
            <p:cNvSpPr/>
            <p:nvPr/>
          </p:nvSpPr>
          <p:spPr>
            <a:xfrm>
              <a:off x="3067200" y="2676600"/>
              <a:ext cx="4749480" cy="14158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>
              <a:off x="2978280" y="2798640"/>
              <a:ext cx="4805280" cy="259884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12"/>
          <p:cNvSpPr/>
          <p:nvPr/>
        </p:nvSpPr>
        <p:spPr>
          <a:xfrm>
            <a:off x="4037040" y="2543040"/>
            <a:ext cx="2152800" cy="2486160"/>
          </a:xfrm>
          <a:custGeom>
            <a:avLst/>
            <a:gdLst>
              <a:gd name="textAreaLeft" fmla="*/ 0 w 2152800"/>
              <a:gd name="textAreaRight" fmla="*/ 2153160 w 215280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356" h="1566">
                <a:moveTo>
                  <a:pt x="0" y="1566"/>
                </a:moveTo>
                <a:cubicBezTo>
                  <a:pt x="301" y="1394"/>
                  <a:pt x="603" y="1223"/>
                  <a:pt x="829" y="962"/>
                </a:cubicBezTo>
                <a:cubicBezTo>
                  <a:pt x="1055" y="701"/>
                  <a:pt x="1205" y="350"/>
                  <a:pt x="1356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3"/>
          <p:cNvSpPr/>
          <p:nvPr/>
        </p:nvSpPr>
        <p:spPr>
          <a:xfrm>
            <a:off x="4159080" y="2397240"/>
            <a:ext cx="3033720" cy="1323720"/>
          </a:xfrm>
          <a:custGeom>
            <a:avLst/>
            <a:gdLst>
              <a:gd name="textAreaLeft" fmla="*/ 0 w 3033720"/>
              <a:gd name="textAreaRight" fmla="*/ 3034080 w 3033720"/>
              <a:gd name="textAreaTop" fmla="*/ 0 h 1323720"/>
              <a:gd name="textAreaBottom" fmla="*/ 1324080 h 1323720"/>
            </a:gdLst>
            <a:ahLst/>
            <a:rect l="textAreaLeft" t="textAreaTop" r="textAreaRight" b="textAreaBottom"/>
            <a:pathLst>
              <a:path w="1911" h="834">
                <a:moveTo>
                  <a:pt x="0" y="28"/>
                </a:moveTo>
                <a:cubicBezTo>
                  <a:pt x="308" y="431"/>
                  <a:pt x="616" y="834"/>
                  <a:pt x="934" y="829"/>
                </a:cubicBezTo>
                <a:cubicBezTo>
                  <a:pt x="1252" y="824"/>
                  <a:pt x="1581" y="412"/>
                  <a:pt x="1911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5342040" y="3333600"/>
            <a:ext cx="0" cy="256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5284800" y="4021200"/>
            <a:ext cx="112680" cy="112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5298120" y="44607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 = 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 flipH="1" flipV="1">
            <a:off x="5386320" y="4170240"/>
            <a:ext cx="31104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5996160" y="2279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7737840" y="52657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7781760" y="3973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6949080" y="21542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2652480" y="395136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28"/>
          <p:cNvGrpSpPr/>
          <p:nvPr/>
        </p:nvGrpSpPr>
        <p:grpSpPr>
          <a:xfrm>
            <a:off x="2606400" y="3333600"/>
            <a:ext cx="2732040" cy="297000"/>
            <a:chOff x="2606400" y="3333600"/>
            <a:chExt cx="2732040" cy="297000"/>
          </a:xfrm>
        </p:grpSpPr>
        <p:sp>
          <p:nvSpPr>
            <p:cNvPr id="158" name="Line 26"/>
            <p:cNvSpPr/>
            <p:nvPr/>
          </p:nvSpPr>
          <p:spPr>
            <a:xfrm flipH="1">
              <a:off x="2606400" y="3333600"/>
              <a:ext cx="273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H="1">
              <a:off x="2606400" y="3630600"/>
              <a:ext cx="273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Oval 16"/>
          <p:cNvSpPr/>
          <p:nvPr/>
        </p:nvSpPr>
        <p:spPr>
          <a:xfrm>
            <a:off x="5284800" y="3284640"/>
            <a:ext cx="112680" cy="112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5286240" y="3581280"/>
            <a:ext cx="112680" cy="112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9"/>
          <p:cNvSpPr/>
          <p:nvPr/>
        </p:nvSpPr>
        <p:spPr>
          <a:xfrm flipV="1">
            <a:off x="3222720" y="3422160"/>
            <a:ext cx="77760" cy="614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5152320" y="58611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2282760" y="3468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2"/>
          <p:cNvSpPr/>
          <p:nvPr/>
        </p:nvSpPr>
        <p:spPr>
          <a:xfrm>
            <a:off x="2282760" y="31766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2376360" y="5821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870AE5A9-5ED2-4A5A-8EFF-54ECFB427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2598840" y="2063880"/>
            <a:ext cx="5810040" cy="38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598840" y="3033720"/>
            <a:ext cx="2732040" cy="31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579840" y="1398600"/>
            <a:ext cx="368136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hort-Run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892400" y="60944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 rot="16200000">
            <a:off x="879480" y="37663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2"/>
          <p:cNvSpPr/>
          <p:nvPr/>
        </p:nvSpPr>
        <p:spPr>
          <a:xfrm>
            <a:off x="4037040" y="2543040"/>
            <a:ext cx="2152800" cy="2486160"/>
          </a:xfrm>
          <a:custGeom>
            <a:avLst/>
            <a:gdLst>
              <a:gd name="textAreaLeft" fmla="*/ 0 w 2152800"/>
              <a:gd name="textAreaRight" fmla="*/ 2153160 w 215280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356" h="1566">
                <a:moveTo>
                  <a:pt x="0" y="1566"/>
                </a:moveTo>
                <a:cubicBezTo>
                  <a:pt x="301" y="1394"/>
                  <a:pt x="603" y="1223"/>
                  <a:pt x="829" y="962"/>
                </a:cubicBezTo>
                <a:cubicBezTo>
                  <a:pt x="1055" y="701"/>
                  <a:pt x="1205" y="350"/>
                  <a:pt x="1356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5342040" y="3044880"/>
            <a:ext cx="0" cy="285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5298120" y="44607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 = 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7"/>
          <p:cNvSpPr/>
          <p:nvPr/>
        </p:nvSpPr>
        <p:spPr>
          <a:xfrm flipH="1" flipV="1">
            <a:off x="5386320" y="4170240"/>
            <a:ext cx="31104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996160" y="2279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7737840" y="52657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7781760" y="3973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7315560" y="21430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2900160" y="3648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3"/>
          <p:cNvGrpSpPr/>
          <p:nvPr/>
        </p:nvGrpSpPr>
        <p:grpSpPr>
          <a:xfrm>
            <a:off x="2606400" y="3044880"/>
            <a:ext cx="2732040" cy="296640"/>
            <a:chOff x="2606400" y="3044880"/>
            <a:chExt cx="2732040" cy="296640"/>
          </a:xfrm>
        </p:grpSpPr>
        <p:sp>
          <p:nvSpPr>
            <p:cNvPr id="184" name="Line 24"/>
            <p:cNvSpPr/>
            <p:nvPr/>
          </p:nvSpPr>
          <p:spPr>
            <a:xfrm flipH="1">
              <a:off x="2606400" y="3044880"/>
              <a:ext cx="273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 flipH="1">
              <a:off x="2606400" y="3341520"/>
              <a:ext cx="273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28"/>
          <p:cNvSpPr/>
          <p:nvPr/>
        </p:nvSpPr>
        <p:spPr>
          <a:xfrm flipV="1">
            <a:off x="3222720" y="3133800"/>
            <a:ext cx="77760" cy="61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5152320" y="58611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2282760" y="28796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2282760" y="31766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376360" y="5821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"/>
          <p:cNvSpPr/>
          <p:nvPr/>
        </p:nvSpPr>
        <p:spPr>
          <a:xfrm>
            <a:off x="4370400" y="2143080"/>
            <a:ext cx="3033720" cy="1055880"/>
          </a:xfrm>
          <a:custGeom>
            <a:avLst/>
            <a:gdLst>
              <a:gd name="textAreaLeft" fmla="*/ 0 w 3033720"/>
              <a:gd name="textAreaRight" fmla="*/ 3034080 w 303372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1911" h="834">
                <a:moveTo>
                  <a:pt x="0" y="28"/>
                </a:moveTo>
                <a:cubicBezTo>
                  <a:pt x="308" y="431"/>
                  <a:pt x="616" y="834"/>
                  <a:pt x="934" y="829"/>
                </a:cubicBezTo>
                <a:cubicBezTo>
                  <a:pt x="1252" y="824"/>
                  <a:pt x="1581" y="412"/>
                  <a:pt x="1911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6"/>
          <p:cNvSpPr/>
          <p:nvPr/>
        </p:nvSpPr>
        <p:spPr>
          <a:xfrm>
            <a:off x="5284800" y="2984400"/>
            <a:ext cx="112680" cy="112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2978280" y="2676600"/>
            <a:ext cx="4838400" cy="2720880"/>
            <a:chOff x="2978280" y="2676600"/>
            <a:chExt cx="4838400" cy="2720880"/>
          </a:xfrm>
        </p:grpSpPr>
        <p:sp>
          <p:nvSpPr>
            <p:cNvPr id="194" name="Line 10"/>
            <p:cNvSpPr/>
            <p:nvPr/>
          </p:nvSpPr>
          <p:spPr>
            <a:xfrm>
              <a:off x="3067200" y="2676600"/>
              <a:ext cx="4749480" cy="14158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1"/>
            <p:cNvSpPr/>
            <p:nvPr/>
          </p:nvSpPr>
          <p:spPr>
            <a:xfrm>
              <a:off x="2978280" y="2798640"/>
              <a:ext cx="4805280" cy="259884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Oval 27"/>
          <p:cNvSpPr/>
          <p:nvPr/>
        </p:nvSpPr>
        <p:spPr>
          <a:xfrm>
            <a:off x="5286240" y="3281400"/>
            <a:ext cx="112680" cy="112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5284800" y="4021200"/>
            <a:ext cx="112680" cy="112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160215F3-8CB6-4145-9FC2-EB5CEE465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598840" y="2063880"/>
            <a:ext cx="5810040" cy="38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23520" y="1398600"/>
            <a:ext cx="4449600" cy="581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ng-Run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892400" y="60944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 rot="16200000">
            <a:off x="879480" y="37663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4037040" y="2543040"/>
            <a:ext cx="2152800" cy="2486160"/>
          </a:xfrm>
          <a:custGeom>
            <a:avLst/>
            <a:gdLst>
              <a:gd name="textAreaLeft" fmla="*/ 0 w 2152800"/>
              <a:gd name="textAreaRight" fmla="*/ 2153160 w 215280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356" h="1566">
                <a:moveTo>
                  <a:pt x="0" y="1566"/>
                </a:moveTo>
                <a:cubicBezTo>
                  <a:pt x="301" y="1394"/>
                  <a:pt x="603" y="1223"/>
                  <a:pt x="829" y="962"/>
                </a:cubicBezTo>
                <a:cubicBezTo>
                  <a:pt x="1055" y="701"/>
                  <a:pt x="1205" y="350"/>
                  <a:pt x="1356" y="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0"/>
          <p:cNvSpPr/>
          <p:nvPr/>
        </p:nvSpPr>
        <p:spPr>
          <a:xfrm>
            <a:off x="5342040" y="3333600"/>
            <a:ext cx="0" cy="256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5298120" y="44607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 = 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"/>
          <p:cNvSpPr/>
          <p:nvPr/>
        </p:nvSpPr>
        <p:spPr>
          <a:xfrm flipH="1" flipV="1">
            <a:off x="5386320" y="4170240"/>
            <a:ext cx="31104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996160" y="2279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7737840" y="52657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7781760" y="397368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7315560" y="2576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2606400" y="3341520"/>
            <a:ext cx="273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5152320" y="586116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2597040" y="3011400"/>
            <a:ext cx="712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2376360" y="5821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6"/>
          <p:cNvSpPr/>
          <p:nvPr/>
        </p:nvSpPr>
        <p:spPr>
          <a:xfrm>
            <a:off x="4314960" y="2722680"/>
            <a:ext cx="3033720" cy="676080"/>
          </a:xfrm>
          <a:custGeom>
            <a:avLst/>
            <a:gdLst>
              <a:gd name="textAreaLeft" fmla="*/ 0 w 3033720"/>
              <a:gd name="textAreaRight" fmla="*/ 3034080 w 303372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1911" h="834">
                <a:moveTo>
                  <a:pt x="0" y="28"/>
                </a:moveTo>
                <a:cubicBezTo>
                  <a:pt x="308" y="431"/>
                  <a:pt x="616" y="834"/>
                  <a:pt x="934" y="829"/>
                </a:cubicBezTo>
                <a:cubicBezTo>
                  <a:pt x="1252" y="824"/>
                  <a:pt x="1581" y="412"/>
                  <a:pt x="1911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8"/>
          <p:cNvGrpSpPr/>
          <p:nvPr/>
        </p:nvGrpSpPr>
        <p:grpSpPr>
          <a:xfrm>
            <a:off x="2978280" y="2676600"/>
            <a:ext cx="4838400" cy="2720880"/>
            <a:chOff x="2978280" y="2676600"/>
            <a:chExt cx="4838400" cy="2720880"/>
          </a:xfrm>
        </p:grpSpPr>
        <p:sp>
          <p:nvSpPr>
            <p:cNvPr id="218" name="Line 29"/>
            <p:cNvSpPr/>
            <p:nvPr/>
          </p:nvSpPr>
          <p:spPr>
            <a:xfrm>
              <a:off x="3067200" y="2676600"/>
              <a:ext cx="4749480" cy="141588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0"/>
            <p:cNvSpPr/>
            <p:nvPr/>
          </p:nvSpPr>
          <p:spPr>
            <a:xfrm>
              <a:off x="2978280" y="2798640"/>
              <a:ext cx="4805280" cy="259884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Oval 31"/>
          <p:cNvSpPr/>
          <p:nvPr/>
        </p:nvSpPr>
        <p:spPr>
          <a:xfrm>
            <a:off x="5286240" y="3281400"/>
            <a:ext cx="112680" cy="1126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2"/>
          <p:cNvSpPr/>
          <p:nvPr/>
        </p:nvSpPr>
        <p:spPr>
          <a:xfrm>
            <a:off x="5284800" y="4021200"/>
            <a:ext cx="112680" cy="112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6"/>
          <p:cNvSpPr/>
          <p:nvPr/>
        </p:nvSpPr>
        <p:spPr>
          <a:xfrm>
            <a:off x="67816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A02EAF61-7669-47AC-AB8A-24201F392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1"/>
          <p:cNvGrpSpPr/>
          <p:nvPr/>
        </p:nvGrpSpPr>
        <p:grpSpPr>
          <a:xfrm>
            <a:off x="1731960" y="1808280"/>
            <a:ext cx="6676920" cy="4429440"/>
            <a:chOff x="1731960" y="1808280"/>
            <a:chExt cx="6676920" cy="4429440"/>
          </a:xfrm>
        </p:grpSpPr>
        <p:sp>
          <p:nvSpPr>
            <p:cNvPr id="225" name="Rectangle 4"/>
            <p:cNvSpPr/>
            <p:nvPr/>
          </p:nvSpPr>
          <p:spPr>
            <a:xfrm>
              <a:off x="2598840" y="1808280"/>
              <a:ext cx="5810040" cy="3836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"/>
            <p:cNvSpPr/>
            <p:nvPr/>
          </p:nvSpPr>
          <p:spPr>
            <a:xfrm>
              <a:off x="4892400" y="58388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 rot="16200000">
              <a:off x="879480" y="3510720"/>
              <a:ext cx="210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ce and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>
              <a:off x="4037040" y="2287440"/>
              <a:ext cx="2152800" cy="2486160"/>
            </a:xfrm>
            <a:custGeom>
              <a:avLst/>
              <a:gdLst>
                <a:gd name="textAreaLeft" fmla="*/ 0 w 2152800"/>
                <a:gd name="textAreaRight" fmla="*/ 2153160 w 2152800"/>
                <a:gd name="textAreaTop" fmla="*/ 0 h 2486160"/>
                <a:gd name="textAreaBottom" fmla="*/ 2486520 h 2486160"/>
              </a:gdLst>
              <a:ahLst/>
              <a:rect l="textAreaLeft" t="textAreaTop" r="textAreaRight" b="textAreaBottom"/>
              <a:pathLst>
                <a:path w="1356" h="1566">
                  <a:moveTo>
                    <a:pt x="0" y="1566"/>
                  </a:moveTo>
                  <a:cubicBezTo>
                    <a:pt x="301" y="1394"/>
                    <a:pt x="603" y="1223"/>
                    <a:pt x="829" y="962"/>
                  </a:cubicBezTo>
                  <a:cubicBezTo>
                    <a:pt x="1055" y="701"/>
                    <a:pt x="1205" y="350"/>
                    <a:pt x="1356" y="0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8"/>
            <p:cNvSpPr/>
            <p:nvPr/>
          </p:nvSpPr>
          <p:spPr>
            <a:xfrm>
              <a:off x="5052960" y="3224160"/>
              <a:ext cx="0" cy="24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4142520" y="468324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 = 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0"/>
            <p:cNvSpPr/>
            <p:nvPr/>
          </p:nvSpPr>
          <p:spPr>
            <a:xfrm flipV="1">
              <a:off x="4660920" y="4237200"/>
              <a:ext cx="336600" cy="4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996160" y="202392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6837480" y="526572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7470720" y="424008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7193520" y="2532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 flipH="1">
              <a:off x="2606760" y="3263760"/>
              <a:ext cx="2441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6"/>
            <p:cNvSpPr/>
            <p:nvPr/>
          </p:nvSpPr>
          <p:spPr>
            <a:xfrm>
              <a:off x="4863600" y="560232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8"/>
            <p:cNvSpPr/>
            <p:nvPr/>
          </p:nvSpPr>
          <p:spPr>
            <a:xfrm>
              <a:off x="2376360" y="5565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3067200" y="2421000"/>
              <a:ext cx="4448160" cy="188424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2978280" y="2543040"/>
              <a:ext cx="3868560" cy="291168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4995720" y="4043520"/>
              <a:ext cx="112680" cy="1126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"/>
            <p:cNvSpPr/>
            <p:nvPr/>
          </p:nvSpPr>
          <p:spPr>
            <a:xfrm>
              <a:off x="4192560" y="2700360"/>
              <a:ext cx="3033720" cy="676080"/>
            </a:xfrm>
            <a:custGeom>
              <a:avLst/>
              <a:gdLst>
                <a:gd name="textAreaLeft" fmla="*/ 0 w 3033720"/>
                <a:gd name="textAreaRight" fmla="*/ 3034080 w 303372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1911" h="834">
                  <a:moveTo>
                    <a:pt x="0" y="28"/>
                  </a:moveTo>
                  <a:cubicBezTo>
                    <a:pt x="308" y="431"/>
                    <a:pt x="616" y="834"/>
                    <a:pt x="934" y="829"/>
                  </a:cubicBezTo>
                  <a:cubicBezTo>
                    <a:pt x="1252" y="824"/>
                    <a:pt x="1581" y="412"/>
                    <a:pt x="1911" y="0"/>
                  </a:cubicBezTo>
                </a:path>
              </a:pathLst>
            </a:custGeom>
            <a:noFill/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3"/>
            <p:cNvSpPr/>
            <p:nvPr/>
          </p:nvSpPr>
          <p:spPr>
            <a:xfrm>
              <a:off x="4997520" y="3214800"/>
              <a:ext cx="112680" cy="1126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2597040" y="2900520"/>
              <a:ext cx="712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A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 txBox="1"/>
          <p:nvPr/>
        </p:nvSpPr>
        <p:spPr>
          <a:xfrm>
            <a:off x="888480" y="1238400"/>
            <a:ext cx="825516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=MC=Min ATC for pure competition (rec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>
            <a:off x="2600280" y="3378240"/>
            <a:ext cx="3076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2223720" y="3228840"/>
            <a:ext cx="357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5664240" y="3379680"/>
            <a:ext cx="0" cy="2264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9"/>
          <p:cNvSpPr/>
          <p:nvPr/>
        </p:nvSpPr>
        <p:spPr>
          <a:xfrm>
            <a:off x="5471640" y="5602320"/>
            <a:ext cx="37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0"/>
          <p:cNvSpPr/>
          <p:nvPr/>
        </p:nvSpPr>
        <p:spPr>
          <a:xfrm>
            <a:off x="5605560" y="3322800"/>
            <a:ext cx="112680" cy="1126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2"/>
          <p:cNvSpPr/>
          <p:nvPr/>
        </p:nvSpPr>
        <p:spPr>
          <a:xfrm>
            <a:off x="2619360" y="37800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ce is 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2711880" y="493236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ss Capacity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imum 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 flipH="1" flipV="1">
            <a:off x="2644560" y="3433320"/>
            <a:ext cx="7794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>
            <a:off x="4738680" y="5308560"/>
            <a:ext cx="647640" cy="20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1689840" y="6137280"/>
            <a:ext cx="69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polistic competition is not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824040" y="0"/>
            <a:ext cx="8319960" cy="1193760"/>
          </a:xfrm>
          <a:prstGeom prst="rect">
            <a:avLst/>
          </a:prstGeom>
          <a:solidFill>
            <a:srgbClr val="b6e0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polist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2"/>
          <p:cNvSpPr/>
          <p:nvPr/>
        </p:nvSpPr>
        <p:spPr>
          <a:xfrm>
            <a:off x="6838920" y="65152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fld id="{B26C6D31-61C3-443E-88D6-4AA69190F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8:09:17Z</dcterms:created>
  <dc:creator>C. Norman Hollingsworth</dc:creator>
  <dc:description/>
  <dc:language>en-US</dc:language>
  <cp:lastModifiedBy>Balazs, Stephen</cp:lastModifiedBy>
  <dcterms:modified xsi:type="dcterms:W3CDTF">2018-01-31T12:59:24Z</dcterms:modified>
  <cp:revision>231</cp:revision>
  <dc:subject>McConnell-Brue Economics</dc:subject>
  <dc:title>Chapter 23</dc:title>
</cp:coreProperties>
</file>